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0C1-003D-40FE-A480-F316B47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288-3287-4C2F-803F-EA16E65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C55-B59A-4068-8104-BF34639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C0D-CD09-486B-9C73-9283D24E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BD-7D4C-4217-ABB3-7378531A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3F2-CC79-4CFD-9083-B51D2BB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756-8E3D-49BC-82C5-8E9FA5BA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562-AA42-4481-BE4A-45A7D787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A83-D3E6-42CA-BFD9-F72E5EE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4F9-4423-4B42-9677-D40F72A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862-6C50-4876-88D2-9A2D9CC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429-493B-4839-BB25-8F3C3742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91F-4678-42A5-8289-A8ED9421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heclipartdirectory.com/clipart/Body/Nose/nose24_tnb.png&amp;imgrefurl=http://www.theclipartdirectory.com/clipart/Body/Nose/nose24_tnb.html&amp;usg=__0iWNYp3i1v9R0hSxfy0miQK1k3U=&amp;h=350&amp;w=350&amp;sz=27&amp;hl=en&amp;start=18&amp;itbs=1&amp;tbnid=T1v6-9sNNBJbvM:&amp;tbnh=120&amp;tbnw=120&amp;prev=/images%3Fq%3Dnose%2Bclip%2Bart%26hl%3Den%26safe%3Dactive%26sa%3DN%26gbv%3D2%26ndsp%3D18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Who’s better at determining a persons gender by looking at there nose? Male or fem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3124080" cy="17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44197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584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better determining a persons gender by looking at someone's nose? Male or fem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think you will be able to tell the g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think you could tell cause it just a nose and most of them look the same its not like you can tell by if its big or smal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tyn, Taryn, Jessica, Kendra, Kayli, and Kand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, Taylor, Luc, Gus, Alex, and Dy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li, Yahaira, Jordan, and Tay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will take a picture of 6 girls and 6 boys nose and then print them out. Then I will have 4 people guess. Then they will guess and see if they can tell what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5720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lan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y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b: 2 male 2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yn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dra: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ica: 4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yn: 3 female 1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ckyn: 4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ra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you can if you really look at it cause most people got them right. I was wrong I didn’t think you could guess the gender by somebody's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38:37Z</dcterms:created>
  <dc:creator>USD376</dc:creator>
  <dc:description/>
  <dc:language>en-US</dc:language>
  <cp:lastModifiedBy>USD376</cp:lastModifiedBy>
  <dcterms:modified xsi:type="dcterms:W3CDTF">2010-04-30T14:27:41Z</dcterms:modified>
  <cp:revision>12</cp:revision>
  <dc:subject/>
  <dc:title>Slide 1</dc:title>
</cp:coreProperties>
</file>